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316-58EC-4475-ADE0-3A26FE10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1B3-BEB3-432D-A54E-2D2DB5AB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65A-9674-4ABD-BEC6-F616C450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62B-9BEE-487C-B7D5-2456A50D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1C76-82A0-4CA4-A236-A9A06AAF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4A06-09F1-4460-B31A-EE3DF76D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B941-A869-42A8-97BB-1184458B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464D-F41C-42F9-A3CB-B143207D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1BCE-7F15-4861-AF61-F8C9DA35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2F3E-1CA0-4632-83E8-3D894F8A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72DE-B736-4864-9271-9CAB9946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C86-865A-4E6E-8B34-84E75717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CBB1-8E08-42CE-A977-86462479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55B7-7ACD-4FA6-A4D7-D5BED3BA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8DA3-4DB1-4511-AF82-B24A46DC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0BA2-055C-44D7-BFE1-3B7C1BFA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93BA-04EE-44B1-942E-027DE9AD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E81-CC6F-4FBA-BAFA-B76F149A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817-5BF9-44B7-A6CF-3AE19E8A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7E0-25FD-425C-9C16-D0524452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6CA-197E-4322-B533-48B4C444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E14-7286-40B3-8BB1-B63A4767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21A-9915-49AC-91B6-041D6378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7AB-62A9-4064-8568-C0B92F44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9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1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78DD-9751-4DE8-A3D5-06FA903A7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95280" y="1701720"/>
            <a:ext cx="11808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8357-F7D8-4D93-9566-D436F9D34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s.ucf.edu/shornik/acg5405/Documents/5405_Course Agreement.doc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s.ucf.edu/shornik/acg5405/Documents/Team Charter.doc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hornik@bus.ucf.edu" TargetMode="External"/><Relationship Id="rId3" Type="http://schemas.openxmlformats.org/officeDocument/2006/relationships/hyperlink" Target="http://acg5405.wikispaces.com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kipwhite.com/" TargetMode="External"/><Relationship Id="rId3" Type="http://schemas.openxmlformats.org/officeDocument/2006/relationships/hyperlink" Target="http://www.gliffy.com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980720"/>
            <a:ext cx="60958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540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you with the basic background and tools that will allow you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acilitate and/or ass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evolution of contemporary accounting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quires a solid understanding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ective system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ed and develo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n effecti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tity-wide internal control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icie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base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 to impro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ing information f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the contemporary issues involved in provi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rance services for systems and database reli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oup Project Pro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’s &amp; Group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o/wh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group member will evaluate every other group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 to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eal constructively with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rticipation in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for assigned task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of initiative or leadership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-100 poin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individual evaluation is a D or less (&lt; 67) your overall project score will be 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FD sections of 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August 2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on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August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urs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H Problem 4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derful Stuff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o this i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Wikispac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hings to Keep You B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hinking about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your team members will be spending a lot of time together so choose wis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schedules of other prospective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team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urse documents of 5405 Web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September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n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September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urs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shornik@bus.ucf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Webpage: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acg5405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 10:00 - 12:00; 5:00 - 6:00 and Thursday 4:00 - 6:00 PM and by appoint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 4:00 – 6:00, and by appoi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(Yahoo): s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use Meebo Widget in 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Information Systems 7th ed., by  Gelinas and D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Glif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G&amp;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(XBR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graded Assignments (UGH’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mitting we will do these in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Ask Questions,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/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Prepared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6:18:38Z</dcterms:created>
  <dc:creator>shornik</dc:creator>
  <dc:description/>
  <dc:language>en-US</dc:language>
  <cp:lastModifiedBy>College of Business Administration</cp:lastModifiedBy>
  <dcterms:modified xsi:type="dcterms:W3CDTF">2007-08-20T14:31:19Z</dcterms:modified>
  <cp:revision>50</cp:revision>
  <dc:subject/>
  <dc:title>ACG 5405 Intro</dc:title>
</cp:coreProperties>
</file>